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EE7-97AF-4F2B-A985-07071443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758-6C7F-4C3F-8630-8647D0A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6B1-7C90-4F62-9B78-42ACAE3F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6B0-5303-46FF-9E46-54C62A0C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B49-BC66-43A3-97F9-E4268879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6D6-B565-4B08-B55E-95F87E43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FDB-195E-4F3B-B712-1A98CAF7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C5B-E1DF-416C-8579-36E6E9F5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C12-3245-4A4C-AB41-7692DB16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56E-183F-4B5A-89D5-76BAB2C4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7D6-BB9A-452F-95FF-02C95ED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10D-EF22-4869-85C1-5884B75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3CB1-2A12-4343-8C65-FBFCD066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17920" y="2209680"/>
            <a:ext cx="3765240" cy="39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3080" y="495360"/>
            <a:ext cx="8458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920" y="623880"/>
            <a:ext cx="8649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Using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nchor(ing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Activ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Anchor Activities to Create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8720" y="1625760"/>
            <a:ext cx="8102520" cy="101592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1000" y="1660680"/>
            <a:ext cx="769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 the whole class to work independentl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ietly on the anchor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0120" y="3225960"/>
            <a:ext cx="3378240" cy="1396800"/>
          </a:xfrm>
          <a:prstGeom prst="roundRect">
            <a:avLst>
              <a:gd name="adj" fmla="val 12495"/>
            </a:avLst>
          </a:prstGeom>
          <a:solidFill>
            <a:srgbClr val="33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3360" y="3301920"/>
            <a:ext cx="3377880" cy="1397160"/>
          </a:xfrm>
          <a:prstGeom prst="roundRect">
            <a:avLst>
              <a:gd name="adj" fmla="val 12495"/>
            </a:avLst>
          </a:prstGeom>
          <a:solidFill>
            <a:srgbClr val="ff505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320" y="3489480"/>
            <a:ext cx="322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lf the class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 anchor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64440" y="3565440"/>
            <a:ext cx="322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half work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different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3378240"/>
            <a:ext cx="1015920" cy="482400"/>
          </a:xfrm>
          <a:prstGeom prst="rightArrow">
            <a:avLst>
              <a:gd name="adj1" fmla="val 50000"/>
              <a:gd name="adj2" fmla="val 105308"/>
            </a:avLst>
          </a:prstGeom>
          <a:solidFill>
            <a:srgbClr val="ff00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87720" y="4064040"/>
            <a:ext cx="939960" cy="558720"/>
          </a:xfrm>
          <a:prstGeom prst="leftArrow">
            <a:avLst>
              <a:gd name="adj1" fmla="val 50000"/>
              <a:gd name="adj2" fmla="val 84109"/>
            </a:avLst>
          </a:prstGeom>
          <a:solidFill>
            <a:srgbClr val="ff00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99080" y="287964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Flip-F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520" y="5207040"/>
            <a:ext cx="2997360" cy="1168200"/>
          </a:xfrm>
          <a:prstGeom prst="octagon">
            <a:avLst>
              <a:gd name="adj" fmla="val 29282"/>
            </a:avLst>
          </a:prstGeom>
          <a:solidFill>
            <a:srgbClr val="ffff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73320" y="5207040"/>
            <a:ext cx="2997360" cy="1168200"/>
          </a:xfrm>
          <a:prstGeom prst="octagon">
            <a:avLst>
              <a:gd name="adj" fmla="val 29282"/>
            </a:avLst>
          </a:prstGeom>
          <a:solidFill>
            <a:srgbClr val="00cc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43680" y="5208480"/>
            <a:ext cx="2997000" cy="1168560"/>
          </a:xfrm>
          <a:prstGeom prst="octagon">
            <a:avLst>
              <a:gd name="adj" fmla="val 29282"/>
            </a:avLst>
          </a:prstGeom>
          <a:solidFill>
            <a:srgbClr val="cc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4160" y="5318280"/>
            <a:ext cx="255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/3 work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chor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18760" y="5394240"/>
            <a:ext cx="28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/3 works 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t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30400" y="5241960"/>
            <a:ext cx="2158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3 works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---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60" y="1417680"/>
            <a:ext cx="41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960" y="2637000"/>
            <a:ext cx="41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960" y="4618080"/>
            <a:ext cx="41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ANCHOR ACTIV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6560" y="1293840"/>
            <a:ext cx="186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an be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1919160"/>
            <a:ext cx="67215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used in any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le class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small group or individual assign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mic Sans MS"/>
              </a:rPr>
              <a:t>tiered to meet the needs of different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nterdisciplinary for use across content areas or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00920" y="1066680"/>
            <a:ext cx="17254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ANCHOR ACTIV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 b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pectations are clear and the tasks are taught and practice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prior to us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udents are held accountable for on task behavior and/or task compl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51280" y="1905120"/>
            <a:ext cx="376560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49160" y="198360"/>
            <a:ext cx="624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lanning for Anchor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480" y="974880"/>
            <a:ext cx="354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ject/Content A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360" y="2041560"/>
            <a:ext cx="639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me and description of anchor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7160" y="3108240"/>
            <a:ext cx="687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will activity be introduced to stu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60" y="4251240"/>
            <a:ext cx="8381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Poi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Percentage of Final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Rubr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Portfoli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Checkli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Teacher/Student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Random Check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Pe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On Task Behavior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Other 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65880" y="914400"/>
            <a:ext cx="1536840" cy="1628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1200" y="3870360"/>
            <a:ext cx="77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will the activity be managed and monito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RAPID ROB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4960" y="5637240"/>
            <a:ext cx="670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“Dreaded Early Finish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8080" y="1477800"/>
            <a:ext cx="466272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’m Not Finished” Fredd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33120" y="3505320"/>
            <a:ext cx="4600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It takes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an hour-and-a-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to watch 60 Minut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" y="1806480"/>
            <a:ext cx="439272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A Good Resour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6640" y="1951200"/>
            <a:ext cx="675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Differentiate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Mixed Ability Classr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5800" y="3260880"/>
            <a:ext cx="360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Carol Ann Toml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ity of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" y="4479840"/>
            <a:ext cx="509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rdering Inf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CD in Alexandr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: 1-800-933-27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703) 549-9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: (703) 299-86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248520" y="4495680"/>
          <a:ext cx="2276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495680"/>
                    <a:ext cx="2276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Times New Roman"/>
              </a:rPr>
              <a:t>One premise in a differentiated classroo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73160" y="1809360"/>
            <a:ext cx="378468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“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In this class we are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never finished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13000" y="3579840"/>
            <a:ext cx="2699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earning i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process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never end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43000" y="2438280"/>
          <a:ext cx="334332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33433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nchor Activ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chor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ongoing assignments that students can work on independently throughout a unit, a grading period or long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51280" y="1905120"/>
            <a:ext cx="376560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nchor Activ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chor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ongoing assignments that students can work on independently throughout a unit of study or long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51280" y="1905120"/>
            <a:ext cx="3765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ome Anchor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143000"/>
            <a:ext cx="87627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Brain Bust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Learning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Activity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Learning/Interest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Vocabulary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ccelerated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Investig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MSPAP or CRT Practice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Magazine Articles with Generic Questions or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Listening Stations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Research Questions or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Commercial Kits and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Journals or Learning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ilent Reading (Content Related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00920" y="1066680"/>
            <a:ext cx="17254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urpose of an Anchor Activity i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5840" y="2286000"/>
            <a:ext cx="739008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rovide 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meaningful work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for students when they finish an assignment or project, when they first enter the class or when they are “stump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ovide ongoing tasks that tie to the content and instruc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 up the classroom teacher to work with other groups of students or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36880" y="5334120"/>
            <a:ext cx="1344600" cy="1323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9216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6T01:00:08Z</dcterms:created>
  <dc:creator>Walt Kearney</dc:creator>
  <dc:description/>
  <dc:language>en-US</dc:language>
  <cp:lastModifiedBy>LJ Nelson</cp:lastModifiedBy>
  <cp:lastPrinted>1998-10-15T18:31:13Z</cp:lastPrinted>
  <dcterms:modified xsi:type="dcterms:W3CDTF">2009-04-09T19:56:34Z</dcterms:modified>
  <cp:revision>26</cp:revision>
  <dc:subject/>
  <dc:title>Anchor Activities</dc:title>
</cp:coreProperties>
</file>